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26.wmf" ContentType="image/x-wmf"/>
  <Override PartName="/ppt/media/image61.png" ContentType="image/png"/>
  <Override PartName="/ppt/media/image59.png" ContentType="image/png"/>
  <Override PartName="/ppt/media/image24.jpeg" ContentType="image/jpeg"/>
  <Override PartName="/ppt/media/image22.png" ContentType="image/png"/>
  <Override PartName="/ppt/media/image3.png" ContentType="image/png"/>
  <Override PartName="/ppt/media/image1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57.png" ContentType="image/png"/>
  <Override PartName="/ppt/media/image20.png" ContentType="image/png"/>
  <Override PartName="/ppt/media/image31.png" ContentType="image/png"/>
  <Override PartName="/ppt/media/image29.png" ContentType="image/png"/>
  <Override PartName="/ppt/media/image42.jpeg" ContentType="image/jpe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3.png" ContentType="image/png"/>
  <Override PartName="/ppt/media/image38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667aa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C5A6-0D60-4F46-9C39-05285F6DC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78D2-F61D-4B53-A1C9-02CA67DEC7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8D6D-0682-44A7-A7C9-7141A9FE76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C68D-5C93-45BD-8FAA-590740E9FF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3DC3-A2A7-458C-A56F-BF07431C27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771C-5F48-4BF8-AE80-9E3EC6E0BD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3F56-A6FA-4B1A-B17B-F2F5408BE4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A82B-05C1-4ABC-BB54-344BE17BC0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1AA2-CE5F-4482-A382-F964FDA9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96BE-FF26-480D-8957-E4B081D2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7B35-A2C2-4548-9706-06B5396E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9A2A-6960-4EC5-A1BE-069F0F25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EC82-A9B0-4184-B417-998D3246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6B9C-C676-4E4E-B0DD-03F569FD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6D6F-0971-4E0E-BD4E-2D291615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79D8-DDF9-4DF4-8E63-07C41EA9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35C0-395A-4D0B-9CDB-A9591531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2BB3-7715-4F8D-8920-DED60BB7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2219-E9BF-417E-96F1-2A98672A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176B-1CA6-405B-8F7B-DB5360C2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151C-4805-42A3-8BCC-AD5CA565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BA80-3DD0-4294-8342-F2EBB050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BFB6-DCE0-40C3-82C8-814E6DE5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DDE1-3F37-4F59-80AC-067BCD56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4058-967C-41EC-B00D-A674DA31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77B11-415F-4D3D-BF4B-A87828FB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1CBC7-54DE-447C-AE85-A72F3063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EC24E-1937-4869-9F20-C7A48036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C0853-AC87-4327-9CB9-B913CA6E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947BC-646F-45E2-99F2-6A8DAB8A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C41D-F48D-4566-8901-FCF32E4B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8849D-154D-4764-8A3C-3700FC41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A20FF-0E2C-48EE-A2A0-747ED6BF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1CF83-461B-464F-A266-6A038480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1E242-C257-41CA-8451-569A704A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471E6-99AD-404F-9BEF-C0CE46C8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EFE9E-FFF5-4513-9EF1-CE0657429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CEB76-B5FA-4A91-8B59-2FB6F086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FD2D9-0BEC-4025-A0B5-A791A792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53800-5B87-4506-A6B6-B5431420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995C4-B291-4654-82F6-C3F35303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DFEA-2D47-4A8B-9E00-72F48C9D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D8242-9114-4E42-A451-6910ACE2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C1E5D-8120-45F1-B62F-FC40366C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802DD-057E-434B-AA29-FB8FEAAC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66257-212F-4E27-B302-74824EFD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8F95D-7600-437E-A958-CE5EDEF3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64316-07C8-4998-82B3-65B7E3C6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74E2B-21F5-4EC4-9C02-3DF327AC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CA7BE-8B76-4AF6-AB65-2EC59734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D65BA-4FF3-4234-ADC0-3A6C281F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DE8D6-CBF0-4736-A83B-94922971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A1D1-57DB-45EB-BB09-24C4FAC2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86B2A-37AE-42BE-B332-81C4F4F7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2F0C1-3B2E-4258-B103-B70785A4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6FE6D-2E37-4050-AE22-9D75F9F6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BE67D-74F9-4CB9-94E2-0EC22A04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4B3E7-F474-4DCC-A8C5-1E398883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7B7CA-08AA-4A42-9F2B-E89F04A1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87A96-7583-4DFC-94CC-21BC6DDB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FFD59-2816-4860-B204-F22DD821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2DFA8-E183-466A-A40F-0D6447D8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2A2F4-314B-419C-976F-EE337FCF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B9B8-6379-49A9-84F1-C844CEC7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B0BCA-1D40-464E-B773-03DFC902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20665-7794-445D-93B4-721E9CCA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E1D28-55CE-4ABF-A1F3-C4CE9102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A5B88-4E90-4A1B-B5DC-27A977DA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1D0AA-52BB-4DF7-B03A-179F6706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FEBA7-D753-4DD1-8438-2A735FD1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09ED3-1D49-4DB7-98BE-955BDD43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3E3D0-E999-4898-80CE-3B3DB88E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5A33F-2202-461A-BEBD-D3E92CC0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87FF6-2F5F-4EA3-ACAD-63731685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2803-CFF7-4062-A8D9-48C54DAE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E0F19-2A77-46E2-86EB-E3DFDA3A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5B6B0-E7AA-4B31-A986-6C2BB816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708FE-E021-4A44-80C6-D21112B3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B54F6-A65B-4476-A8B0-718D20BE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18D7E-4B11-4225-A347-1903F547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D43E3-D10F-49F3-A6E5-0D7D03A3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663A0-F8C8-4C0B-8F90-E1048AE2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8EA3C-1E13-40C9-9A7C-26635D98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56E23-5C30-4E91-B653-B72AD4E3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A7FB6-985B-4DB0-A7A1-76921378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712F-0AC6-4506-A8C1-0D92E76E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071E3-76B5-4F54-9F1D-6CFFC1B1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F29A3-2FF5-4CF0-93FB-593158B5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3B208-1CE9-49B5-8B09-A6392F47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98AED-503D-4839-808A-19121F69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A68EB-DA37-4AA4-91BF-ACD00C8E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CA6A-B746-4390-BB16-CBA35673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667aa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68007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089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D1DF-09C0-47EF-8298-BA63096B0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005b"/>
              </a:gs>
              <a:gs pos="100000">
                <a:srgbClr val="ae86c1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667aa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68007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089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A175-DEBB-4545-B758-9395D71D281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667aa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68007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089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88DA-B2D8-49CA-B4B3-F29C983D7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005b"/>
              </a:gs>
              <a:gs pos="100000">
                <a:srgbClr val="ae86c1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667aa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68007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089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B970-35B8-47D8-BE4B-7363AFB9EA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667aa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68007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089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FA81-3C44-47AD-BE7B-B53C5EA4E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667aa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68007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089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EF18-4112-4FB2-B73D-4AD79D162A66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667aa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68007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089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FEF5-E52B-40A3-9E6A-E7BDED154B53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3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4.xml"/><Relationship Id="rId3" Type="http://schemas.openxmlformats.org/officeDocument/2006/relationships/slide" Target="slide32.xml"/><Relationship Id="rId4" Type="http://schemas.openxmlformats.org/officeDocument/2006/relationships/slide" Target="slide40.xml"/><Relationship Id="rId5" Type="http://schemas.openxmlformats.org/officeDocument/2006/relationships/slide" Target="slide17.xml"/><Relationship Id="rId6" Type="http://schemas.openxmlformats.org/officeDocument/2006/relationships/slide" Target="slide25.xml"/><Relationship Id="rId7" Type="http://schemas.openxmlformats.org/officeDocument/2006/relationships/slide" Target="slide33.xml"/><Relationship Id="rId8" Type="http://schemas.openxmlformats.org/officeDocument/2006/relationships/slide" Target="slide41.xml"/><Relationship Id="rId9" Type="http://schemas.openxmlformats.org/officeDocument/2006/relationships/slide" Target="slide18.xml"/><Relationship Id="rId10" Type="http://schemas.openxmlformats.org/officeDocument/2006/relationships/slide" Target="slide26.xml"/><Relationship Id="rId11" Type="http://schemas.openxmlformats.org/officeDocument/2006/relationships/slide" Target="slide34.xml"/><Relationship Id="rId12" Type="http://schemas.openxmlformats.org/officeDocument/2006/relationships/slide" Target="slide42.xml"/><Relationship Id="rId13" Type="http://schemas.openxmlformats.org/officeDocument/2006/relationships/slide" Target="slide19.xml"/><Relationship Id="rId14" Type="http://schemas.openxmlformats.org/officeDocument/2006/relationships/slide" Target="slide27.xml"/><Relationship Id="rId15" Type="http://schemas.openxmlformats.org/officeDocument/2006/relationships/slide" Target="slide35.xml"/><Relationship Id="rId16" Type="http://schemas.openxmlformats.org/officeDocument/2006/relationships/slide" Target="slide43.xml"/><Relationship Id="rId17" Type="http://schemas.openxmlformats.org/officeDocument/2006/relationships/slide" Target="slide20.xml"/><Relationship Id="rId18" Type="http://schemas.openxmlformats.org/officeDocument/2006/relationships/slide" Target="slide28.xml"/><Relationship Id="rId19" Type="http://schemas.openxmlformats.org/officeDocument/2006/relationships/slide" Target="slide36.xml"/><Relationship Id="rId20" Type="http://schemas.openxmlformats.org/officeDocument/2006/relationships/slide" Target="slide44.xml"/><Relationship Id="rId2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" Target="slide21.xml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" Target="slide21.xml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" Target="slide22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" Target="slide21.xml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" Target="slide21.xml"/><Relationship Id="rId7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.xml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" Target="slide30.xml"/><Relationship Id="rId4" Type="http://schemas.openxmlformats.org/officeDocument/2006/relationships/slide" Target="slide21.xml"/><Relationship Id="rId5" Type="http://schemas.openxmlformats.org/officeDocument/2006/relationships/slide" Target="slide30.xml"/><Relationship Id="rId6" Type="http://schemas.openxmlformats.org/officeDocument/2006/relationships/slide" Target="slide30.xml"/><Relationship Id="rId7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" Target="slide21.xml"/><Relationship Id="rId4" Type="http://schemas.openxmlformats.org/officeDocument/2006/relationships/slide" Target="slide30.xml"/><Relationship Id="rId5" Type="http://schemas.openxmlformats.org/officeDocument/2006/relationships/slide" Target="slide30.xml"/><Relationship Id="rId6" Type="http://schemas.openxmlformats.org/officeDocument/2006/relationships/slide" Target="slide30.xml"/><Relationship Id="rId7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" Target="slide21.xml"/><Relationship Id="rId4" Type="http://schemas.openxmlformats.org/officeDocument/2006/relationships/slide" Target="slide30.xml"/><Relationship Id="rId5" Type="http://schemas.openxmlformats.org/officeDocument/2006/relationships/slide" Target="slide30.xml"/><Relationship Id="rId6" Type="http://schemas.openxmlformats.org/officeDocument/2006/relationships/slide" Target="slide30.xml"/><Relationship Id="rId7" Type="http://schemas.openxmlformats.org/officeDocument/2006/relationships/slide" Target="slide22.xml"/><Relationship Id="rId8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" Target="slide30.xml"/><Relationship Id="rId4" Type="http://schemas.openxmlformats.org/officeDocument/2006/relationships/slide" Target="slide30.xml"/><Relationship Id="rId5" Type="http://schemas.openxmlformats.org/officeDocument/2006/relationships/slide" Target="slide21.xml"/><Relationship Id="rId6" Type="http://schemas.openxmlformats.org/officeDocument/2006/relationships/slide" Target="slide30.xml"/><Relationship Id="rId7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" Target="slide30.xml"/><Relationship Id="rId4" Type="http://schemas.openxmlformats.org/officeDocument/2006/relationships/slide" Target="slide21.xml"/><Relationship Id="rId5" Type="http://schemas.openxmlformats.org/officeDocument/2006/relationships/slide" Target="slide30.xml"/><Relationship Id="rId6" Type="http://schemas.openxmlformats.org/officeDocument/2006/relationships/slide" Target="slide30.xml"/><Relationship Id="rId7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5.xml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hyperlink" Target="http://www.ocregister.com/news/game-208290-wow-addiction.html" TargetMode="External"/><Relationship Id="rId3" Type="http://schemas.openxmlformats.org/officeDocument/2006/relationships/hyperlink" Target="http://www.webmd.com/mental-health/features/video-game-addiction-no-fun" TargetMode="External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" Target="slide38.xml"/><Relationship Id="rId3" Type="http://schemas.openxmlformats.org/officeDocument/2006/relationships/image" Target="../media/image42.jpeg"/><Relationship Id="rId4" Type="http://schemas.openxmlformats.org/officeDocument/2006/relationships/slide" Target="slide37.xml"/><Relationship Id="rId5" Type="http://schemas.openxmlformats.org/officeDocument/2006/relationships/image" Target="../media/image43.png"/><Relationship Id="rId6" Type="http://schemas.openxmlformats.org/officeDocument/2006/relationships/slide" Target="slide38.xml"/><Relationship Id="rId7" Type="http://schemas.openxmlformats.org/officeDocument/2006/relationships/image" Target="../media/image44.jpeg"/><Relationship Id="rId8" Type="http://schemas.openxmlformats.org/officeDocument/2006/relationships/slide" Target="slide38.xml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" Target="slide38.xml"/><Relationship Id="rId3" Type="http://schemas.openxmlformats.org/officeDocument/2006/relationships/slide" Target="slide38.xml"/><Relationship Id="rId4" Type="http://schemas.openxmlformats.org/officeDocument/2006/relationships/slide" Target="slide38.xml"/><Relationship Id="rId5" Type="http://schemas.openxmlformats.org/officeDocument/2006/relationships/slide" Target="slide21.xml"/><Relationship Id="rId6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" Target="slide38.xml"/><Relationship Id="rId3" Type="http://schemas.openxmlformats.org/officeDocument/2006/relationships/slide" Target="slide21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" Target="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" Target="slide9.xml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hyperlink" Target="http://en.wikipedia.org/wiki/Hard_disk_drive" TargetMode="External"/><Relationship Id="rId3" Type="http://schemas.openxmlformats.org/officeDocument/2006/relationships/hyperlink" Target="http://en.wikipedia.org/wiki/Central_processing_unit" TargetMode="External"/><Relationship Id="rId4" Type="http://schemas.openxmlformats.org/officeDocument/2006/relationships/hyperlink" Target="http://en.wikipedia.org/wiki/Motherboard" TargetMode="External"/><Relationship Id="rId5" Type="http://schemas.openxmlformats.org/officeDocument/2006/relationships/hyperlink" Target="http://office.microsoft.com/en-us/images/results.aspx?qu=winners&amp;origin=FX101741979#ai:MC900299011|" TargetMode="External"/><Relationship Id="rId6" Type="http://schemas.openxmlformats.org/officeDocument/2006/relationships/hyperlink" Target="http://www.webopedia.com/TERM/H/hardware.html" TargetMode="External"/><Relationship Id="rId7" Type="http://schemas.openxmlformats.org/officeDocument/2006/relationships/hyperlink" Target="http://www.webopedia.com/TERM/S/software.html" TargetMode="External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" Target="slide46.xml"/><Relationship Id="rId3" Type="http://schemas.openxmlformats.org/officeDocument/2006/relationships/slide" Target="slide46.xml"/><Relationship Id="rId4" Type="http://schemas.openxmlformats.org/officeDocument/2006/relationships/slide" Target="slide37.xml"/><Relationship Id="rId5" Type="http://schemas.openxmlformats.org/officeDocument/2006/relationships/slide" Target="slide46.xml"/><Relationship Id="rId6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" Target="slide46.xml"/><Relationship Id="rId3" Type="http://schemas.openxmlformats.org/officeDocument/2006/relationships/slide" Target="slide46.xml"/><Relationship Id="rId4" Type="http://schemas.openxmlformats.org/officeDocument/2006/relationships/slide" Target="slide46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09" name="Rectangle 3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9614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 computer is made of hardware and software. Hardware is the objects you can actually touch on the computer. Software is anything that is electronically stored onto the computer. A computer is a system containing many parts working together in order to func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Right Arrow 3">
            <a:hlinkClick r:id="rId2" action="ppaction://hlinksldjump"/>
          </p:cNvPr>
          <p:cNvSpPr/>
          <p:nvPr/>
        </p:nvSpPr>
        <p:spPr>
          <a:xfrm>
            <a:off x="8001000" y="6324480"/>
            <a:ext cx="596880" cy="3049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82520" y="262080"/>
            <a:ext cx="8510760" cy="14079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n input device is a piece of computer hardware used to provide data and control signals to a processing system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n output device is a piece of computer hardware used to communicate the results of data processing system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Right Arrow 3">
            <a:hlinkClick r:id="rId2" action="ppaction://hlinksldjump"/>
          </p:cNvPr>
          <p:cNvSpPr/>
          <p:nvPr/>
        </p:nvSpPr>
        <p:spPr>
          <a:xfrm>
            <a:off x="8305920" y="6324480"/>
            <a:ext cx="368280" cy="33192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3" descr=""/>
          <p:cNvPicPr/>
          <p:nvPr/>
        </p:nvPicPr>
        <p:blipFill>
          <a:blip r:embed="rId1"/>
          <a:stretch/>
        </p:blipFill>
        <p:spPr>
          <a:xfrm>
            <a:off x="438120" y="92160"/>
            <a:ext cx="8255160" cy="15778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50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entury Gothic"/>
              </a:rPr>
              <a:t>Binary Numbers are a two based number system comprised of 1s and 0s. </a:t>
            </a:r>
            <a:endParaRPr b="0" lang="en-US" sz="3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50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entury Gothic"/>
              </a:rPr>
              <a:t>They are used by the computers, calculators, and other computers.</a:t>
            </a:r>
            <a:endParaRPr b="0" lang="en-US" sz="3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Action Button: Forward or Next 4">
            <a:hlinkClick r:id="rId2" action="ppaction://hlinksldjump"/>
          </p:cNvPr>
          <p:cNvSpPr/>
          <p:nvPr/>
        </p:nvSpPr>
        <p:spPr>
          <a:xfrm>
            <a:off x="830592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information that is typed into a computer is translated and converted into binary numbers and is read by the CPU and the results of what you typed are then shown to you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7" name="Title 10" descr=""/>
          <p:cNvPicPr/>
          <p:nvPr/>
        </p:nvPicPr>
        <p:blipFill>
          <a:blip r:embed="rId1"/>
          <a:stretch/>
        </p:blipFill>
        <p:spPr>
          <a:xfrm>
            <a:off x="-42840" y="92160"/>
            <a:ext cx="8736120" cy="1577880"/>
          </a:xfrm>
          <a:prstGeom prst="rect">
            <a:avLst/>
          </a:prstGeom>
          <a:ln w="0">
            <a:noFill/>
          </a:ln>
        </p:spPr>
      </p:pic>
      <p:sp>
        <p:nvSpPr>
          <p:cNvPr id="338" name="Action Button: Forward or Next 3">
            <a:hlinkClick r:id="" action="ppaction://hlinkshowjump?jump=nextslide"/>
          </p:cNvPr>
          <p:cNvSpPr/>
          <p:nvPr/>
        </p:nvSpPr>
        <p:spPr>
          <a:xfrm>
            <a:off x="8305920" y="60958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3794"/>
                </a:moveTo>
                <a:lnTo>
                  <a:pt x="18882" y="10800"/>
                </a:lnTo>
                <a:lnTo>
                  <a:pt x="4869" y="17806"/>
                </a:lnTo>
                <a:close/>
              </a:path>
            </a:pathLst>
          </a:cu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-6480" y="139680"/>
            <a:ext cx="8699760" cy="15303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inary Numbers are an important skill to know in case of someone plans on becoming a computer programmer that need to know binary numbers since they are the ‘language’ of computers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Action Button: Forward or Next 3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0" y="0"/>
          <a:ext cx="9144000" cy="70405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4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etiquette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800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Video Game Addiction 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800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arts Of The   Computer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800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inary Numbers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800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8007f"/>
                    </a:solidFill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1" action="ppaction://hlinksldjump"/>
                        </a:rPr>
                        <a:t>1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2" action="ppaction://hlinksldjump"/>
                        </a:rPr>
                        <a:t>1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3" action="ppaction://hlinksldjump"/>
                        </a:rPr>
                        <a:t>1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4" action="ppaction://hlinksldjump"/>
                        </a:rPr>
                        <a:t>1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bd8"/>
                    </a:solidFill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5" action="ppaction://hlinksldjump"/>
                        </a:rPr>
                        <a:t>2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6" action="ppaction://hlinksldjump"/>
                        </a:rPr>
                        <a:t>2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7" action="ppaction://hlinksldjump"/>
                        </a:rPr>
                        <a:t>2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8" action="ppaction://hlinksldjump"/>
                        </a:rPr>
                        <a:t>2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9" action="ppaction://hlinksldjump"/>
                        </a:rPr>
                        <a:t>3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10" action="ppaction://hlinksldjump"/>
                        </a:rPr>
                        <a:t>3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11" action="ppaction://hlinksldjump"/>
                        </a:rPr>
                        <a:t>3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12" action="ppaction://hlinksldjump"/>
                        </a:rPr>
                        <a:t>3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bd8"/>
                    </a:solidFill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13" action="ppaction://hlinksldjump"/>
                        </a:rPr>
                        <a:t>4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14" action="ppaction://hlinksldjump"/>
                        </a:rPr>
                        <a:t>4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15" action="ppaction://hlinksldjump"/>
                        </a:rPr>
                        <a:t>4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16" action="ppaction://hlinksldjump"/>
                        </a:rPr>
                        <a:t>4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17" action="ppaction://hlinksldjump"/>
                        </a:rPr>
                        <a:t>5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18" action="ppaction://hlinksldjump"/>
                        </a:rPr>
                        <a:t>5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19" action="ppaction://hlinksldjump"/>
                        </a:rPr>
                        <a:t>5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20" action="ppaction://hlinksldjump"/>
                        </a:rPr>
                        <a:t>5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b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Rectangle 2" descr=""/>
          <p:cNvPicPr/>
          <p:nvPr/>
        </p:nvPicPr>
        <p:blipFill>
          <a:blip r:embed="rId1"/>
          <a:stretch/>
        </p:blipFill>
        <p:spPr>
          <a:xfrm>
            <a:off x="755640" y="182520"/>
            <a:ext cx="8193240" cy="1596960"/>
          </a:xfrm>
          <a:prstGeom prst="rect">
            <a:avLst/>
          </a:prstGeom>
          <a:ln w="0">
            <a:noFill/>
          </a:ln>
        </p:spPr>
      </p:pic>
      <p:pic>
        <p:nvPicPr>
          <p:cNvPr id="344" name="Rectangle 3" descr=""/>
          <p:cNvPicPr/>
          <p:nvPr/>
        </p:nvPicPr>
        <p:blipFill>
          <a:blip r:embed="rId2"/>
          <a:stretch/>
        </p:blipFill>
        <p:spPr>
          <a:xfrm>
            <a:off x="1365120" y="1670040"/>
            <a:ext cx="6615360" cy="14637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9"/>
          <p:cNvSpPr/>
          <p:nvPr/>
        </p:nvSpPr>
        <p:spPr>
          <a:xfrm>
            <a:off x="1066680" y="3124080"/>
            <a:ext cx="71629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U.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Ja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5" action="ppaction://hlinksldjump"/>
              </a:rPr>
              <a:t>F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6" action="ppaction://hlinksldjump"/>
              </a:rPr>
              <a:t>South Ko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755640" y="-12600"/>
            <a:ext cx="8010360" cy="1469880"/>
          </a:xfrm>
          <a:prstGeom prst="rect">
            <a:avLst/>
          </a:prstGeom>
          <a:ln w="0">
            <a:noFill/>
          </a:ln>
        </p:spPr>
      </p:pic>
      <p:pic>
        <p:nvPicPr>
          <p:cNvPr id="347" name="Rectangle 3" descr=""/>
          <p:cNvPicPr/>
          <p:nvPr/>
        </p:nvPicPr>
        <p:blipFill>
          <a:blip r:embed="rId2"/>
          <a:stretch/>
        </p:blipFill>
        <p:spPr>
          <a:xfrm>
            <a:off x="1365120" y="1749600"/>
            <a:ext cx="6615360" cy="145728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4"/>
          <p:cNvSpPr/>
          <p:nvPr/>
        </p:nvSpPr>
        <p:spPr>
          <a:xfrm>
            <a:off x="1523880" y="3352680"/>
            <a:ext cx="6705720" cy="30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A sentence that includes profan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Calling someone a name in a sent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5" action="ppaction://hlinksldjump"/>
              </a:rPr>
              <a:t> insulting you family in a sent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6" action="ppaction://hlinksldjump"/>
              </a:rPr>
              <a:t>All of the ab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755640" y="-12600"/>
            <a:ext cx="8150400" cy="1469880"/>
          </a:xfrm>
          <a:prstGeom prst="rect">
            <a:avLst/>
          </a:prstGeom>
          <a:ln w="0">
            <a:noFill/>
          </a:ln>
        </p:spPr>
      </p:pic>
      <p:pic>
        <p:nvPicPr>
          <p:cNvPr id="350" name="Rectangle 3" descr=""/>
          <p:cNvPicPr/>
          <p:nvPr/>
        </p:nvPicPr>
        <p:blipFill>
          <a:blip r:embed="rId2"/>
          <a:stretch/>
        </p:blipFill>
        <p:spPr>
          <a:xfrm>
            <a:off x="1365120" y="1749600"/>
            <a:ext cx="6620040" cy="1457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4"/>
          <p:cNvSpPr/>
          <p:nvPr/>
        </p:nvSpPr>
        <p:spPr>
          <a:xfrm>
            <a:off x="1523880" y="3352680"/>
            <a:ext cx="670572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INTERNET&amp;NAPK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TERNET&amp;PROTI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NETWORK&amp;ETIQUT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5" action="ppaction://hlinksldjump"/>
              </a:rPr>
              <a:t>INTERNET&amp;ETIQUET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755640" y="-12600"/>
            <a:ext cx="8010360" cy="1469880"/>
          </a:xfrm>
          <a:prstGeom prst="rect">
            <a:avLst/>
          </a:prstGeom>
          <a:ln w="0">
            <a:noFill/>
          </a:ln>
        </p:spPr>
      </p:pic>
      <p:pic>
        <p:nvPicPr>
          <p:cNvPr id="353" name="Rectangle 3" descr=""/>
          <p:cNvPicPr/>
          <p:nvPr/>
        </p:nvPicPr>
        <p:blipFill>
          <a:blip r:embed="rId2"/>
          <a:stretch/>
        </p:blipFill>
        <p:spPr>
          <a:xfrm>
            <a:off x="1365120" y="1749600"/>
            <a:ext cx="6620040" cy="145728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4"/>
          <p:cNvSpPr/>
          <p:nvPr/>
        </p:nvSpPr>
        <p:spPr>
          <a:xfrm>
            <a:off x="1523880" y="3352680"/>
            <a:ext cx="6705720" cy="30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Most of the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 Someti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5" action="ppaction://hlinksldjump"/>
              </a:rPr>
              <a:t>Only when your parents are checking your Faceboo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6" action="ppaction://hlinksldjump"/>
              </a:rPr>
              <a:t>Alw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Netiquette Is combination of the words network and etiquett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Netiquette is using proper manners on the interne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Netiquette was developed in South Korea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755640" y="-12600"/>
            <a:ext cx="8010360" cy="1469880"/>
          </a:xfrm>
          <a:prstGeom prst="rect">
            <a:avLst/>
          </a:prstGeom>
          <a:ln w="0">
            <a:noFill/>
          </a:ln>
        </p:spPr>
      </p:pic>
      <p:pic>
        <p:nvPicPr>
          <p:cNvPr id="356" name="Rectangle 3" descr=""/>
          <p:cNvPicPr/>
          <p:nvPr/>
        </p:nvPicPr>
        <p:blipFill>
          <a:blip r:embed="rId2"/>
          <a:stretch/>
        </p:blipFill>
        <p:spPr>
          <a:xfrm>
            <a:off x="1341360" y="1706400"/>
            <a:ext cx="6656400" cy="150048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4"/>
          <p:cNvSpPr/>
          <p:nvPr/>
        </p:nvSpPr>
        <p:spPr>
          <a:xfrm>
            <a:off x="1523880" y="3352680"/>
            <a:ext cx="6705720" cy="34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So you don’t come across as a bad pers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So you don’t get in trou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5" action="ppaction://hlinksldjump"/>
              </a:rPr>
              <a:t>Not to ruin your repu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6" action="ppaction://hlinksldjump"/>
              </a:rPr>
              <a:t>All of the ab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4" descr=""/>
          <p:cNvPicPr/>
          <p:nvPr/>
        </p:nvPicPr>
        <p:blipFill>
          <a:blip r:embed="rId1"/>
          <a:stretch/>
        </p:blipFill>
        <p:spPr>
          <a:xfrm>
            <a:off x="450720" y="-390600"/>
            <a:ext cx="8242560" cy="2427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1st place,academic,awards,businesses,ones,prizes,ribbons,special occasions,winners,winnings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981080" y="2362320"/>
            <a:ext cx="416268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5" descr=""/>
          <p:cNvPicPr/>
          <p:nvPr/>
        </p:nvPicPr>
        <p:blipFill>
          <a:blip r:embed="rId1"/>
          <a:stretch/>
        </p:blipFill>
        <p:spPr>
          <a:xfrm>
            <a:off x="438120" y="-457200"/>
            <a:ext cx="8255160" cy="25304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C:\Program Files\Microsoft Office\MEDIA\CAGCAT10\j0286034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185400">
            <a:off x="2611440" y="2643120"/>
            <a:ext cx="48848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Netiquette article in Microsoft, provided by Ms.Bornfrien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3" descr=""/>
          <p:cNvPicPr/>
          <p:nvPr/>
        </p:nvPicPr>
        <p:blipFill>
          <a:blip r:embed="rId1"/>
          <a:stretch/>
        </p:blipFill>
        <p:spPr>
          <a:xfrm>
            <a:off x="785880" y="-115920"/>
            <a:ext cx="8491320" cy="1590840"/>
          </a:xfrm>
          <a:prstGeom prst="rect">
            <a:avLst/>
          </a:prstGeom>
          <a:ln w="0">
            <a:noFill/>
          </a:ln>
        </p:spPr>
      </p:pic>
      <p:pic>
        <p:nvPicPr>
          <p:cNvPr id="365" name="Subtitle 5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278920" cy="1841400"/>
          </a:xfrm>
          <a:prstGeom prst="rect">
            <a:avLst/>
          </a:prstGeom>
          <a:ln w="0">
            <a:noFill/>
          </a:ln>
        </p:spPr>
      </p:pic>
      <p:sp>
        <p:nvSpPr>
          <p:cNvPr id="366" name="TextBox 6"/>
          <p:cNvSpPr/>
          <p:nvPr/>
        </p:nvSpPr>
        <p:spPr>
          <a:xfrm>
            <a:off x="793800" y="3683160"/>
            <a:ext cx="704376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160" bIns="38160" anchor="t">
            <a:spAutoFit/>
          </a:bodyPr>
          <a:p>
            <a:pPr marL="717480" indent="-71748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10-15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717480" indent="-71748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15-30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717480" indent="-71748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5" action="ppaction://hlinksldjump"/>
              </a:rPr>
              <a:t>30-40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717480" indent="-71748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6" action="ppaction://hlinksldjump"/>
              </a:rPr>
              <a:t>35-45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2" descr=""/>
          <p:cNvPicPr/>
          <p:nvPr/>
        </p:nvPicPr>
        <p:blipFill>
          <a:blip r:embed="rId1"/>
          <a:stretch/>
        </p:blipFill>
        <p:spPr>
          <a:xfrm>
            <a:off x="341280" y="249120"/>
            <a:ext cx="8845560" cy="1530360"/>
          </a:xfrm>
          <a:prstGeom prst="rect">
            <a:avLst/>
          </a:prstGeom>
          <a:ln w="0">
            <a:noFill/>
          </a:ln>
        </p:spPr>
      </p:pic>
      <p:pic>
        <p:nvPicPr>
          <p:cNvPr id="368" name="Rectangle 3" descr=""/>
          <p:cNvPicPr/>
          <p:nvPr/>
        </p:nvPicPr>
        <p:blipFill>
          <a:blip r:embed="rId2"/>
          <a:stretch/>
        </p:blipFill>
        <p:spPr>
          <a:xfrm>
            <a:off x="1427040" y="1695600"/>
            <a:ext cx="6607440" cy="146196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9"/>
          <p:cNvSpPr/>
          <p:nvPr/>
        </p:nvSpPr>
        <p:spPr>
          <a:xfrm>
            <a:off x="1066680" y="3124080"/>
            <a:ext cx="716292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spAutoFit/>
          </a:bodyPr>
          <a:p>
            <a:pPr lvl="1" marL="1100160" indent="-717480">
              <a:lnSpc>
                <a:spcPct val="100000"/>
              </a:lnSpc>
              <a:buClr>
                <a:srgbClr val="68007f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Because they become dominan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717480">
              <a:lnSpc>
                <a:spcPct val="100000"/>
              </a:lnSpc>
              <a:buClr>
                <a:srgbClr val="68007f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Because they are bored and need to do something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717480">
              <a:lnSpc>
                <a:spcPct val="100000"/>
              </a:lnSpc>
              <a:buClr>
                <a:srgbClr val="68007f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5" action="ppaction://hlinksldjump"/>
              </a:rPr>
              <a:t>To have fun and party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717480">
              <a:lnSpc>
                <a:spcPct val="100000"/>
              </a:lnSpc>
              <a:buClr>
                <a:srgbClr val="68007f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6" action="ppaction://hlinksldjump"/>
              </a:rPr>
              <a:t>Because that’s what kids do to relax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717480">
              <a:lnSpc>
                <a:spcPct val="100000"/>
              </a:lnSpc>
              <a:buClr>
                <a:srgbClr val="68007f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71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755640" y="317520"/>
            <a:ext cx="8778960" cy="1455840"/>
          </a:xfrm>
          <a:prstGeom prst="rect">
            <a:avLst/>
          </a:prstGeom>
          <a:ln w="0">
            <a:noFill/>
          </a:ln>
        </p:spPr>
      </p:pic>
      <p:pic>
        <p:nvPicPr>
          <p:cNvPr id="371" name="Rectangle 3" descr=""/>
          <p:cNvPicPr/>
          <p:nvPr/>
        </p:nvPicPr>
        <p:blipFill>
          <a:blip r:embed="rId2"/>
          <a:stretch/>
        </p:blipFill>
        <p:spPr>
          <a:xfrm>
            <a:off x="1365120" y="1749600"/>
            <a:ext cx="6608880" cy="14572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4"/>
          <p:cNvSpPr/>
          <p:nvPr/>
        </p:nvSpPr>
        <p:spPr>
          <a:xfrm>
            <a:off x="1523880" y="3352680"/>
            <a:ext cx="670572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spAutoFit/>
          </a:bodyPr>
          <a:p>
            <a:pPr marL="717480" indent="-71748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Playing for amounts of tim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717480" indent="-71748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They sleep and eat all da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717480" indent="-71748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5" action="ppaction://hlinksldjump"/>
              </a:rPr>
              <a:t>Going outside to play with friend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717480" indent="-71748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6" action="ppaction://hlinksldjump"/>
              </a:rPr>
              <a:t>Getting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7" action="ppaction://hlinksldjump"/>
              </a:rPr>
              <a:t>annoyed with the game and give.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717480" indent="-717480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536400" y="665280"/>
            <a:ext cx="8491680" cy="1584360"/>
          </a:xfrm>
          <a:prstGeom prst="rect">
            <a:avLst/>
          </a:prstGeom>
          <a:ln w="0">
            <a:noFill/>
          </a:ln>
        </p:spPr>
      </p:pic>
      <p:pic>
        <p:nvPicPr>
          <p:cNvPr id="374" name="Subtitle 3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  <p:sp>
        <p:nvSpPr>
          <p:cNvPr id="375" name="TextBox 4"/>
          <p:cNvSpPr/>
          <p:nvPr/>
        </p:nvSpPr>
        <p:spPr>
          <a:xfrm>
            <a:off x="857160" y="2984400"/>
            <a:ext cx="774864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160" bIns="38160" anchor="t">
            <a:spAutoFit/>
          </a:bodyPr>
          <a:p>
            <a:pPr marL="717480" indent="-71748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My many online rocking playing gam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717480" indent="-71748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Multiple massive organize role playing gam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717480" indent="-71748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5" action="ppaction://hlinksldjump"/>
              </a:rPr>
              <a:t>Massive multiplayer online role playing gam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717480" indent="-71748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6" action="ppaction://hlinksldjump"/>
              </a:rPr>
              <a:t>My mothers orange ribbon pinches grandma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3" descr=""/>
          <p:cNvPicPr/>
          <p:nvPr/>
        </p:nvPicPr>
        <p:blipFill>
          <a:blip r:embed="rId1"/>
          <a:stretch/>
        </p:blipFill>
        <p:spPr>
          <a:xfrm>
            <a:off x="530280" y="201600"/>
            <a:ext cx="8491320" cy="1590840"/>
          </a:xfrm>
          <a:prstGeom prst="rect">
            <a:avLst/>
          </a:prstGeom>
          <a:ln w="0">
            <a:noFill/>
          </a:ln>
        </p:spPr>
      </p:pic>
      <p:pic>
        <p:nvPicPr>
          <p:cNvPr id="377" name="Subtitle 4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TextBox 5"/>
          <p:cNvSpPr/>
          <p:nvPr/>
        </p:nvSpPr>
        <p:spPr>
          <a:xfrm>
            <a:off x="922320" y="3365640"/>
            <a:ext cx="762012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160" bIns="38160" anchor="t">
            <a:spAutoFit/>
          </a:bodyPr>
          <a:p>
            <a:pPr marL="717480" indent="-71748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Having friends over to pla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717480" indent="-71748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Being anti-social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717480" indent="-71748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5" action="ppaction://hlinksldjump"/>
              </a:rPr>
              <a:t>Having eye sight problem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717480" indent="-71748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6" action="ppaction://hlinksldjump"/>
              </a:rPr>
              <a:t>Talking to much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4" descr=""/>
          <p:cNvPicPr/>
          <p:nvPr/>
        </p:nvPicPr>
        <p:blipFill>
          <a:blip r:embed="rId1"/>
          <a:stretch/>
        </p:blipFill>
        <p:spPr>
          <a:xfrm>
            <a:off x="450720" y="-219240"/>
            <a:ext cx="8742600" cy="20480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1st place,academic,awards,businesses,ones,prizes,ribbons,special occasions,winners,winnings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330280" y="2413080"/>
            <a:ext cx="401004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profanity, making fun of people, and posting personal information are all examples of improper netiquett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mproper netiquette can have a strong impact on your community by exploiting and making fun of a person and them taking drastic measures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5" descr=""/>
          <p:cNvPicPr/>
          <p:nvPr/>
        </p:nvPicPr>
        <p:blipFill>
          <a:blip r:embed="rId1"/>
          <a:stretch/>
        </p:blipFill>
        <p:spPr>
          <a:xfrm>
            <a:off x="596880" y="42840"/>
            <a:ext cx="8242200" cy="27432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C:\Program Files\Microsoft Office\MEDIA\CAGCAT10\j0286034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675240" y="3048120"/>
            <a:ext cx="365112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2"/>
              </a:rPr>
              <a:t>http://www.ocregister.com/news/game-208290-wow-addiction.htm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3"/>
              </a:rPr>
              <a:t>http://www.webmd.com/mental-health/features/video-game-addiction-no-fu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Clip art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304560" y="1218960"/>
            <a:ext cx="838188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ich One Is The Hard driv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)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4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7" name="Picture 3" descr="220px-80486dx2-large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48320" y="4800600"/>
            <a:ext cx="1941480" cy="1447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300px-Hard_drive-en_svg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914400" y="4976640"/>
            <a:ext cx="2209680" cy="15764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hi-def-hi-fi-2b.jpg">
            <a:hlinkClick r:id="rId6" action="ppaction://hlinksldjump"/>
          </p:cNvPr>
          <p:cNvPicPr/>
          <p:nvPr/>
        </p:nvPicPr>
        <p:blipFill>
          <a:blip r:embed="rId7"/>
          <a:srcRect l="20011" t="0" r="20011" b="0"/>
          <a:stretch/>
        </p:blipFill>
        <p:spPr>
          <a:xfrm>
            <a:off x="990720" y="3276720"/>
            <a:ext cx="1143000" cy="14475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ps.gif">
            <a:hlinkClick r:id="rId8" action="ppaction://hlinksldjump"/>
          </p:cNvPr>
          <p:cNvPicPr/>
          <p:nvPr/>
        </p:nvPicPr>
        <p:blipFill>
          <a:blip r:embed="rId9"/>
          <a:srcRect l="7914" t="19813" r="0" b="8906"/>
          <a:stretch/>
        </p:blipFill>
        <p:spPr>
          <a:xfrm>
            <a:off x="990720" y="1752480"/>
            <a:ext cx="1771560" cy="13716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755640" y="-12600"/>
            <a:ext cx="8150400" cy="1469880"/>
          </a:xfrm>
          <a:prstGeom prst="rect">
            <a:avLst/>
          </a:prstGeom>
          <a:ln w="0">
            <a:noFill/>
          </a:ln>
        </p:spPr>
      </p:pic>
      <p:pic>
        <p:nvPicPr>
          <p:cNvPr id="392" name="Rectangle 3" descr=""/>
          <p:cNvPicPr/>
          <p:nvPr/>
        </p:nvPicPr>
        <p:blipFill>
          <a:blip r:embed="rId2"/>
          <a:stretch/>
        </p:blipFill>
        <p:spPr>
          <a:xfrm>
            <a:off x="195120" y="895320"/>
            <a:ext cx="88995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437680" cy="14079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71680" indent="-509040">
              <a:spcBef>
                <a:spcPts val="751"/>
              </a:spcBef>
              <a:buClr>
                <a:srgbClr val="68007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ich part is not a storage device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1680" indent="-509040">
              <a:spcBef>
                <a:spcPts val="751"/>
              </a:spcBef>
              <a:buClr>
                <a:srgbClr val="68007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1680" indent="-509040">
              <a:lnSpc>
                <a:spcPct val="150000"/>
              </a:lnSpc>
              <a:spcBef>
                <a:spcPts val="751"/>
              </a:spcBef>
              <a:buClr>
                <a:srgbClr val="68007f"/>
              </a:buClr>
              <a:buSzPct val="80000"/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2" action="ppaction://hlinksldjump"/>
              </a:rPr>
              <a:t>Cd-Ro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1680" indent="-509040">
              <a:lnSpc>
                <a:spcPct val="150000"/>
              </a:lnSpc>
              <a:spcBef>
                <a:spcPts val="751"/>
              </a:spcBef>
              <a:buClr>
                <a:srgbClr val="68007f"/>
              </a:buClr>
              <a:buSzPct val="80000"/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3" action="ppaction://hlinksldjump"/>
              </a:rPr>
              <a:t>USB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1680" indent="-509040">
              <a:lnSpc>
                <a:spcPct val="150000"/>
              </a:lnSpc>
              <a:spcBef>
                <a:spcPts val="751"/>
              </a:spcBef>
              <a:buClr>
                <a:srgbClr val="68007f"/>
              </a:buClr>
              <a:buSzPct val="80000"/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4" action="ppaction://hlinksldjump"/>
              </a:rPr>
              <a:t>IP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1680" indent="-509040">
              <a:lnSpc>
                <a:spcPct val="150000"/>
              </a:lnSpc>
              <a:spcBef>
                <a:spcPts val="751"/>
              </a:spcBef>
              <a:buClr>
                <a:srgbClr val="68007f"/>
              </a:buClr>
              <a:buSzPct val="80000"/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5" action="ppaction://hlinksldjump"/>
              </a:rPr>
              <a:t>Prin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1680" indent="-50904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437680" cy="14079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) This Is An Image Of What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51"/>
              </a:spcBef>
              <a:buClr>
                <a:srgbClr val="68007f"/>
              </a:buClr>
              <a:buSzPct val="80000"/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2" action="ppaction://hlinksldjump"/>
              </a:rPr>
              <a:t>Softwar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51"/>
              </a:spcBef>
              <a:buClr>
                <a:srgbClr val="68007f"/>
              </a:buClr>
              <a:buSzPct val="80000"/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3" action="ppaction://hlinksldjump"/>
              </a:rPr>
              <a:t>Hardwar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51"/>
              </a:spcBef>
              <a:buClr>
                <a:srgbClr val="68007f"/>
              </a:buClr>
              <a:buSzPct val="80000"/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4" action="ppaction://hlinksldjump"/>
              </a:rPr>
              <a:t>Motherboar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51"/>
              </a:spcBef>
              <a:buClr>
                <a:srgbClr val="68007f"/>
              </a:buClr>
              <a:buSzPct val="80000"/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5" action="ppaction://hlinksldjump"/>
              </a:rPr>
              <a:t>Power sourc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7" name="Picture 3" descr="558px-Personal_computer,_exploded_5_svg.png"/>
          <p:cNvPicPr/>
          <p:nvPr/>
        </p:nvPicPr>
        <p:blipFill>
          <a:blip r:embed="rId6"/>
          <a:stretch/>
        </p:blipFill>
        <p:spPr>
          <a:xfrm>
            <a:off x="5638680" y="2590920"/>
            <a:ext cx="27990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755640" y="182520"/>
            <a:ext cx="8193240" cy="1596960"/>
          </a:xfrm>
          <a:prstGeom prst="rect">
            <a:avLst/>
          </a:prstGeom>
          <a:ln w="0">
            <a:noFill/>
          </a:ln>
        </p:spPr>
      </p:pic>
      <p:pic>
        <p:nvPicPr>
          <p:cNvPr id="399" name="Rectangle 3" descr=""/>
          <p:cNvPicPr/>
          <p:nvPr/>
        </p:nvPicPr>
        <p:blipFill>
          <a:blip r:embed="rId2"/>
          <a:stretch/>
        </p:blipFill>
        <p:spPr>
          <a:xfrm>
            <a:off x="146160" y="1292400"/>
            <a:ext cx="8175600" cy="62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4" descr=""/>
          <p:cNvPicPr/>
          <p:nvPr/>
        </p:nvPicPr>
        <p:blipFill>
          <a:blip r:embed="rId1"/>
          <a:stretch/>
        </p:blipFill>
        <p:spPr>
          <a:xfrm>
            <a:off x="438120" y="103320"/>
            <a:ext cx="8493120" cy="32558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4560" y="32763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02" name="Picture 5" descr="1st place,academic,awards,businesses,ones,prizes,ribbons,special occasions,winners,winnings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743200" y="304812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5" descr=""/>
          <p:cNvPicPr/>
          <p:nvPr/>
        </p:nvPicPr>
        <p:blipFill>
          <a:blip r:embed="rId1"/>
          <a:stretch/>
        </p:blipFill>
        <p:spPr>
          <a:xfrm>
            <a:off x="450720" y="347760"/>
            <a:ext cx="8242560" cy="3011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Program Files\Microsoft Office\MEDIA\CAGCAT10\j0286034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93800" y="3505320"/>
            <a:ext cx="32734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entury Gothic"/>
                <a:hlinkClick r:id="rId2"/>
              </a:rPr>
              <a:t>http://en.wikipedia.org/wiki/Hard_disk_driv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entury Gothic"/>
                <a:hlinkClick r:id="rId3"/>
              </a:rPr>
              <a:t>http://en.wikipedia.org/wiki/Central_processing_uni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entury Gothic"/>
                <a:hlinkClick r:id="rId4"/>
              </a:rPr>
              <a:t>http://en.wikipedia.org/wiki/Motherboard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entury Gothic"/>
                <a:hlinkClick r:id="rId5"/>
              </a:rPr>
              <a:t>http://office.microsoft.com/en-us/images/results.aspx?qu=winners&amp;origin=FX101741979#ai:MC900299011|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par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entury Gothic"/>
                <a:hlinkClick r:id="rId6"/>
              </a:rPr>
              <a:t>http://www.webopedia.com/TERM/H/hardware.htm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entury Gothic"/>
                <a:hlinkClick r:id="rId7"/>
              </a:rPr>
              <a:t>http://www.webopedia.com/TERM/S/software.htm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Netiquette should be used at all time while onlin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s of bad netiquette are 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           </a:t>
            </a:r>
            <a:r>
              <a:rPr b="1" i="1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i="1" lang="en-US" sz="3000" spc="-1" strike="noStrike">
                <a:solidFill>
                  <a:srgbClr val="ffffff"/>
                </a:solidFill>
                <a:latin typeface="Century Gothic"/>
              </a:rPr>
              <a:t>*using profan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entury Gothic"/>
              </a:rPr>
              <a:t>                   </a:t>
            </a:r>
            <a:r>
              <a:rPr b="1" i="1" lang="en-US" sz="3000" spc="-1" strike="noStrike">
                <a:solidFill>
                  <a:srgbClr val="ffffff"/>
                </a:solidFill>
                <a:latin typeface="Century Gothic"/>
              </a:rPr>
              <a:t>*calling people names on   public of any websit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5908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at is 49 in binary numbers ?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.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2" action="ppaction://hlinksldjump"/>
              </a:rPr>
              <a:t>11101010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.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3" action="ppaction://hlinksldjump"/>
              </a:rPr>
              <a:t>11100100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.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4" action="ppaction://hlinksldjump"/>
              </a:rPr>
              <a:t>00011000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.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5" action="ppaction://hlinksldjump"/>
              </a:rPr>
              <a:t>10100011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0" y="3276720"/>
            <a:ext cx="7162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92160" y="262080"/>
            <a:ext cx="8601120" cy="14079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at is 69 in binary numbers ?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.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2" action="ppaction://hlinksldjump"/>
              </a:rPr>
              <a:t>10001001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.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3" action="ppaction://hlinksldjump"/>
              </a:rPr>
              <a:t>00100100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.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4" action="ppaction://hlinksldjump"/>
              </a:rPr>
              <a:t>00011100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.00100010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92160" y="262080"/>
            <a:ext cx="8601120" cy="1407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at is 160 in binary numbers ?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.01010101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. 00001000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.10000100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.00010001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92160" y="262080"/>
            <a:ext cx="8601120" cy="14079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at is 010010110 in whole numbers ?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.149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. 22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. 4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. 15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92160" y="262080"/>
            <a:ext cx="8601120" cy="14079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at is 2477 in binary numbers ?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.01100101110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. 00010011100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.10011010110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.11110001010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0720" y="-122400"/>
            <a:ext cx="8242560" cy="25671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1st place,academic,awards,businesses,ones,prizes,ribbons,special occasions,winners,winnings"/>
          <p:cNvPicPr/>
          <p:nvPr/>
        </p:nvPicPr>
        <p:blipFill>
          <a:blip r:embed="rId2"/>
          <a:stretch/>
        </p:blipFill>
        <p:spPr>
          <a:xfrm>
            <a:off x="2286000" y="22860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5" descr=""/>
          <p:cNvPicPr/>
          <p:nvPr/>
        </p:nvPicPr>
        <p:blipFill>
          <a:blip r:embed="rId1"/>
          <a:stretch/>
        </p:blipFill>
        <p:spPr>
          <a:xfrm>
            <a:off x="450720" y="-360360"/>
            <a:ext cx="8242560" cy="25304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80880" y="3657600"/>
            <a:ext cx="83059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22" name="Picture 5" descr="C:\Program Files\Microsoft Office\MEDIA\CAGCAT10\j0286034.wmf"/>
          <p:cNvPicPr/>
          <p:nvPr/>
        </p:nvPicPr>
        <p:blipFill>
          <a:blip r:embed="rId2"/>
          <a:stretch/>
        </p:blipFill>
        <p:spPr>
          <a:xfrm>
            <a:off x="3124080" y="1981080"/>
            <a:ext cx="4724640" cy="45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formation of binary numbers found in notes taken in class, and the following website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ww.helpwithpcs.com/courses/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binar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numbers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.ht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hp.about.com/od/programingglossary/qt/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binar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.ht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1461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Video game addiction is excessive or compulsive use of computer and video games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Video game addiction is usually seen in kids who are unpopular and wants to be dominant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most common age group for video game addiction is in males who are under 30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en a child has video game addiction they are isolated, the act of emotional and social development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r adults they jeopardize jobs and relationship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ays to identify video game addiction is lying to friends and family about gaming, feeling irritable, and thinking about gaming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ome people are called MMORPG. MMORPG is massive multiplayer online role playing games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o get over video game addiction you must learn how to live with out a computer, and to learn responsibility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o keep track of your child’s video game addiction is to check log ins of game playing, and for how log they play.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603360" y="225360"/>
            <a:ext cx="8242200" cy="14083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 computer is an electronic device that processes, inputs, and outputs data at high speeds according to programmed instructions. It stores and manipulates informatio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Right Arrow 3">
            <a:hlinkClick r:id="rId2" action="ppaction://hlinksldjump"/>
          </p:cNvPr>
          <p:cNvSpPr/>
          <p:nvPr/>
        </p:nvSpPr>
        <p:spPr>
          <a:xfrm>
            <a:off x="8458200" y="6248520"/>
            <a:ext cx="380880" cy="3045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5:15:39Z</dcterms:created>
  <dc:creator>bcpss</dc:creator>
  <dc:description/>
  <dc:language>en-US</dc:language>
  <cp:lastModifiedBy>student</cp:lastModifiedBy>
  <dcterms:modified xsi:type="dcterms:W3CDTF">2010-11-04T18:21:38Z</dcterms:modified>
  <cp:revision>81</cp:revision>
  <dc:subject/>
  <dc:title>Topic 1</dc:title>
</cp:coreProperties>
</file>